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0D1-E46F-4086-9666-13CBF1E6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6B8-A438-4B78-A297-0C572FED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E50-E743-4434-9752-BE14E5DF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385-E0B3-4BCD-8288-768107EF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41F5-EA17-4AF5-B801-BA996B46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6709-4AFB-430C-8D09-E267A487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BA65-462C-4F58-9CEF-245F3105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E337-FF6C-4C6C-A609-FE71445E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5458-C1EF-46BA-8CE7-BDD0E08C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8FB9-9576-4348-B564-3F825113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8A46-C8B1-4B52-88B9-B9B8BB78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729-DD98-460C-B695-A797825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E0EA-631C-4596-82AC-F1B72FBA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A016-50E6-4809-9E5D-1BB743E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5B5E-C6C3-44D3-B29A-A7285238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6151-0C13-4F33-A994-05518DEC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2360-D0BB-4476-AE7A-9AD08076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37B1-571F-4300-9CD2-DA230021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16FA-37DF-410B-BEE3-45F1F362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B935-0A46-457D-A82B-23AEC4F1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825F-D4DB-46B1-B9FC-FB41DB13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E23D-64D3-487D-9FDF-A3910603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434-89A5-4384-8D20-69BA2F3A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32C7-0A62-44BF-AD6F-1FA69873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81F4-743D-405C-80F8-E5A205A6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9B1E-526B-4A67-962F-F38359F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0EA1-9BE7-4D96-8D4F-67DA7DB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1B43-80E5-47C8-9893-D1727BB2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2FD4-C2FD-4C35-8863-FBA218E5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5D42-C9E5-4ED6-B7C3-F4C204C2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CF619-6F62-4C60-B60D-9DFE89E3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DB8F-102F-46AC-9DFE-C0CC6594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EC50-1BD9-44F4-BCA2-0EE2F87C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411-5E68-4E55-95C4-E1F67715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2720-E82D-4145-B919-A3B90BF9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6BDE8-6B90-4AE2-9C58-B670DB13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393E-1450-452D-821B-B35128D0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EB09-E76E-4D03-AF3F-3FC644BB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14FC-B584-42DB-B9C7-1344924F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2195-CA5B-4E7A-B30C-353E59D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F45D-BA24-44C6-841C-81D45F88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3E435-90E3-4769-8749-0EA3EEB0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1794-7510-4B3A-9EBA-941FF485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992-7381-4396-96DA-B5F9CD20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1BB-E677-4B21-8FF1-67BB5147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512-1554-461A-B951-3552EFD8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ADE-9D9B-4E02-ADC8-30098B04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69B-91FB-439E-9967-EC72258F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238E-C82C-46EF-BF89-42A185D889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3A09-6694-43F2-8C03-DAC4772229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01DD-8B4E-49A7-AD4F-C93EE5061D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2553-63E8-4B87-BE23-836FF26BE06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17680" y="1352520"/>
            <a:ext cx="7887960" cy="1914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solidFill>
            <a:srgbClr val="f1fbfd"/>
          </a:solidFill>
          <a:ln w="25560">
            <a:solidFill>
              <a:srgbClr val="000000"/>
            </a:solidFill>
            <a:miter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495c"/>
                </a:solidFill>
                <a:latin typeface="Constantia"/>
              </a:rPr>
              <a:t>By:  Eric R., Bree, Lauren, and Ariel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as energy f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sin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y do they use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newable re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fr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was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n’t pollute the 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7" descr="http://ga.water.usgs.gov/edu/graphics/wuhytypicalplant.gif"/>
          <p:cNvPicPr/>
          <p:nvPr/>
        </p:nvPicPr>
        <p:blipFill>
          <a:blip r:embed="rId1"/>
          <a:stretch/>
        </p:blipFill>
        <p:spPr>
          <a:xfrm>
            <a:off x="3943440" y="990720"/>
            <a:ext cx="5002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it is used to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as electri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lies 10% of the world’s electri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people are using water po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e to the decreasing amount of fossil fu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Documents and Settings\User\Local Settings\Temporary Internet Files\Content.IE5\9YSMW0G9\MPj04387110000[1].jpg"/>
          <p:cNvPicPr/>
          <p:nvPr/>
        </p:nvPicPr>
        <p:blipFill>
          <a:blip r:embed="rId1"/>
          <a:stretch/>
        </p:blipFill>
        <p:spPr>
          <a:xfrm>
            <a:off x="4648320" y="2787480"/>
            <a:ext cx="4038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water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lar energy heats on the surface causing the water to evapora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water vapor condenses into clouds and falls back into the surface as precipit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water flows through rivers back into the oceans, where it can evaporate and begin the cycle over agai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http://members.optusnet.com.au/benjamink/Water/TheWaterCycleWebQuest_files/watercycle.gif"/>
          <p:cNvPicPr/>
          <p:nvPr/>
        </p:nvPicPr>
        <p:blipFill>
          <a:blip r:embed="rId1"/>
          <a:stretch/>
        </p:blipFill>
        <p:spPr>
          <a:xfrm>
            <a:off x="4699080" y="1752480"/>
            <a:ext cx="44449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water generates pow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dam is built to trap wa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sually in a valley where there is an existing lak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ater is allowed to flow through tunnels in the dam, to tu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urbin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drive generator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am is much thicker at the bottom than at the top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essure of the water increases with dep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ydro-electric power stations can produce a great deal of power very cheap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4:32:29Z</dcterms:created>
  <dc:creator> </dc:creator>
  <dc:description/>
  <dc:language>en-US</dc:language>
  <cp:lastModifiedBy> </cp:lastModifiedBy>
  <dcterms:modified xsi:type="dcterms:W3CDTF">2009-04-29T14:59:28Z</dcterms:modified>
  <cp:revision>14</cp:revision>
  <dc:subject/>
  <dc:title>Water Power</dc:title>
</cp:coreProperties>
</file>